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38F2-052E-4B1E-8F5B-4751AA522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8BE4-F2E5-45A7-9950-8B8729FCE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0347-1075-48D2-B200-6C27C78AB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EE00-875F-468E-AEF8-BBD2EFA3D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68CE-CDA4-4683-A592-B202F9E24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3F72-A789-4EFA-95F1-1695F9873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87F9-2E35-4667-AEF4-428775624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AF27-C743-41FC-8E95-E295A5EF7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97F2-DC47-4A4B-844A-D2FEB5CCF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80B5-A87D-4051-8318-ED1A8B952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62AF-329D-4AAD-827F-F385C5A54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0D35-71CC-4B07-857A-6B83C6BED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5F82-6777-4056-8AA4-74A1A4464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BC74-0479-4641-8357-C6CF77489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D637-0C1D-476D-A60A-AAAAEECE3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62E-E810-44B4-9C30-CD73B8BB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A6E-0D96-4184-975C-C1A4EB58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F70-6762-40E3-ACBB-9CFEA4DE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48D-3A2C-4BC0-8799-43BB4806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D91-5F6D-4F57-818C-3590928F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A3C-51DC-41D9-B56F-C455ED40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215-B639-45F0-9124-DB37E299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D4D-2F1C-4947-896D-F1CD046A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B82-F502-4B09-9D7A-70630266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29C-CA38-42B9-A66A-0107CF48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B00-C5C2-46B2-9993-628421AC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F08-47BF-47C5-870F-85E7AB12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6F90-D45E-4EEA-9685-66B3F0A17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ING  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 ROSAMOND  S.  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e ancestors reached out to nam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ere’s Aku and Trini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ey both can be traced to the sam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Of blood and of soil an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6858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Nyamoo came over the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Oshun lives inside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Eshu th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 why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still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tory flows into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6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Bookman Old Style"/>
              </a:rPr>
              <a:t>Bring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533520" y="327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ookman Old Style"/>
              </a:rPr>
              <a:t>Ba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chin"/>
              </a:rPr>
              <a:t>www.rosamondking.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My Eshu lies over the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My Oshun lies inside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Abiku cries down by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Don’t bring back that body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chin"/>
              </a:rPr>
              <a:t>B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858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Cochin"/>
              </a:rPr>
              <a:t>Back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52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uenne is derived from ab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shun became Erzu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history lies under the o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heritage beyond the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4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4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6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Bookman Old Style"/>
              </a:rPr>
              <a:t>Bring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33520" y="327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ookman Old Style"/>
              </a:rPr>
              <a:t>Ba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My brawn it belongs to the Og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My blood it flows into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e two meet inside a black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And whisper </a:t>
            </a:r>
            <a:r>
              <a:rPr b="0" i="1" lang="en-US" sz="3200" spc="-1" strike="noStrike">
                <a:solidFill>
                  <a:srgbClr val="000000"/>
                </a:solidFill>
                <a:latin typeface="Cochin"/>
              </a:rPr>
              <a:t>you fight to b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858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bonnet flies along with Osh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bond it lies under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llion cries sent through my Es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ing bakra body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155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115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115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115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155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1155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1155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1155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155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1155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1155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1155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155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1155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1155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1155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Bookman Old Style"/>
              </a:rPr>
              <a:t>Bring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33520" y="327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ookman Old Style"/>
              </a:rPr>
              <a:t>Ba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06:33:53Z</dcterms:created>
  <dc:creator>liu</dc:creator>
  <dc:description/>
  <dc:language>en-US</dc:language>
  <cp:lastModifiedBy>Microsoft Office User</cp:lastModifiedBy>
  <dcterms:modified xsi:type="dcterms:W3CDTF">2020-10-11T11:33:29Z</dcterms:modified>
  <cp:revision>21</cp:revision>
  <dc:subject/>
  <dc:title>Bring Back</dc:title>
</cp:coreProperties>
</file>